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98BF-C269-4D3D-A3AF-983A49684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586E-4F73-4DF7-BC5D-65F8EA2D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4591-D340-4B61-83A0-45752FE0D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8392-0E1B-48BF-B98E-B7E23D50E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789C-583F-4FCC-BDDB-238EF421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FF90-FE54-439E-AE1A-243DB864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2184-2F60-4E71-A3BD-EFB2A46C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2A48-2D0C-4543-A108-551F7102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DC77-83B8-4B5C-8E72-94CCC487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7CEE-BB12-4A82-8EC7-4442A541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5C37-F492-4531-9F2B-F9E9B2AB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FD64-6154-429F-8498-333323C4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8664-1ADE-432F-B6C6-285F57345A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8960" y="1523880"/>
            <a:ext cx="5667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Correcting fo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Non-differenti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Misclassific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Of Exposu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848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848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638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781680" y="5791320"/>
            <a:ext cx="16002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01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91160" cy="2346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90720" y="3048120"/>
            <a:ext cx="7391160" cy="838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447920" y="4114800"/>
            <a:ext cx="60958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91160" cy="2346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90720" y="3048120"/>
            <a:ext cx="7391160" cy="533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066680" y="3809880"/>
            <a:ext cx="72392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924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8001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257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3520" y="5638680"/>
            <a:ext cx="80769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9250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2819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5800" y="3429000"/>
            <a:ext cx="7781760" cy="762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85800" y="4267080"/>
            <a:ext cx="77724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2209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8076960" cy="733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80880" y="3276720"/>
            <a:ext cx="8305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696080" cy="3809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5800" y="4952880"/>
            <a:ext cx="76960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66ccff"/>
                </a:solidFill>
                <a:latin typeface="Times New Roman"/>
              </a:rPr>
              <a:t>(reasonable assumption in this stud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10T04:44:35Z</dcterms:modified>
  <cp:revision>215</cp:revision>
  <dc:subject/>
  <dc:title>Slide 1</dc:title>
</cp:coreProperties>
</file>